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CD4-908F-4CF8-9D8B-9DCC9C78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93A-8AB2-442C-8B81-06ABFC26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F0693-EFFF-47E1-832C-45FE5EE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1E8C9-ABB2-4C69-8E1A-1B29440A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A489E-F693-4767-86E6-2794AA85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80E87-7C86-46B4-90E0-A1CD883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3E909-2BDB-4569-ABF9-165715C1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5A499-ED80-4FE8-8C12-88D309F7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69A7-82F7-4DBE-A00B-B42FD76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5EC4-8F10-49D0-9DFB-83B3AA31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DD8DB-1BC4-40AC-815F-70071FBA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4926E-FC58-4E64-9B12-3CE9867A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FE1-86D1-4CE4-9F7B-EE55BECD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C0782-CD30-475E-BBDC-EDE6DAF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6AEC1-95B9-4C0D-86F1-B0D2596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26054-02B7-49BB-BF19-80C6B3AE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C3235-33B9-4D0C-AFD5-83334925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97878-C7A0-4D29-B56C-FB6C2331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C9534-3D8F-456E-AD76-E7BB6193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BE476-1C38-4914-9D1C-E2B6A24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DC3DB-29C1-42A1-B629-E0BBB32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DF8A8-5AB4-4013-BDB1-2DACD48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71CAA-634A-492B-AE94-DF90AC96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234-BEAB-49D2-9BFA-ADF76694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D339B-0EA5-45CB-8CFF-D408B2FA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71A5C-AF7C-45BE-AF19-605D9F7F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9EE71-6DBE-4E6A-9072-C424E058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AD052-6642-4051-A256-DD24CEFD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E27AF-884C-4CE1-9181-1434BF7A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CB8F4-F6E4-4D20-A3C0-2AE3CCF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08DA-949B-40DF-88AA-C0AC49B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AC2D2-D92F-4DA7-9902-A3FBE05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921CE-B36D-4A7B-A7D8-588DE5A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B9E20-3A8C-410F-A323-F392ED0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C95B-A4B8-47A1-906E-561D5CB1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4C01-DCE7-42A1-A26B-D69D9F33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006AF-3B7A-4826-BCA5-5184351F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8034A-04F7-493A-B77B-32893E6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183ED-B139-4224-94EF-FC6422B6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5D26A-F26D-47AF-92C2-021CCDDB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E0AF-5871-409D-88CB-875F2E34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DBB75-2BD1-4FE5-AE12-095492E2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39241-0B39-4DFA-8A7D-93A5AF08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5155-024C-48A6-9CDF-9B61018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2E47F-9A86-444B-9CDC-D392533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E0E-9AA8-4917-8196-3B8B115B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7C278-F48F-410B-9C90-A028EE8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30468-1335-4D0C-8630-033AFDB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D2DC0-747D-4E77-920A-05396DD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85E08-D1E4-4495-B2F8-6FAB079E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A9B74-A9DC-46A2-B575-043E3370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5D4-3E63-40F0-99A4-CABE163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CBC-CFB6-44A5-B367-5AED133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8A09-2098-4E8F-85B6-2C5405E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4148-C55D-4B53-9822-872C9CF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A1FB-83B1-4DE4-A3D0-3172B9A2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235-E2CA-4381-A444-F204C1E1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994-C3CE-48DF-BC12-8D55921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CC74-21A3-4F4B-A689-02E11EE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A10-2D95-4FB0-A1BD-5D8F061A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84E4-487F-42BB-89E1-DC8250D4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A319-DABD-4F95-875E-315BF0D8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9C41-00DF-4BAB-A697-6023C541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2C3E-FB97-4EC4-97CE-B761E0B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E223-A01B-4617-913A-1A16173F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AC5D-DAD7-4005-A89A-9B8FCD89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D384-D04F-45A4-88AE-F3F0772A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4B8-4E70-4F97-AE09-CEBD17E4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861D-89AA-4DCB-B810-B7D7ECD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64E7-85FD-4CF3-9B28-3E27ED8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0ACA-C67B-412A-B28B-262C13A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0D96-B39A-4250-86FD-AC90B8E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34C0-9203-4A4C-BF78-F9A0DC75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ED17-3AF1-4529-970E-8A70C320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B75E-04DA-46D1-89D5-C6A8F453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DF1F-B353-463C-9960-F46E5345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1004-DCD3-4D70-896F-A8AF026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3984-EF3F-4AED-AB71-FC48E0F9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518-3247-40AC-B28B-35CE5991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7A2E-A537-4E12-9ED8-68ED1444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6625-130A-4E6E-AD7F-6405B249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28B3-0A48-46A1-92B7-CF18C391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2A3E-EE11-4348-AE19-8445941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073D-7012-4CF2-9C40-26D28F8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420A-CE4F-4065-BA22-99C2089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E460-77EC-4810-A6E8-306DDCD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06B9-ED37-4901-A5AB-C089A422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5315-7235-4870-9ED5-230F41DC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D152-7D96-4CD9-A33E-C21C31B4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86C-A916-428C-BE62-4D2B8E41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3B54-0A20-4189-B581-58867F7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6F86-FA08-47DE-A51B-8760A21F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A1DC2-35A8-4C96-AA1F-A00B20C2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8E24-A107-4DD7-BA58-0A3BFAC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94CF-8567-4A58-98DB-F780601F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86C4-CFF2-48E1-A822-5832CA8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9EA5C-1BC9-4219-B1A7-40387B02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58381-E491-47C2-95AD-C989069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C591-E057-47B7-93AB-5BC58DB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D2B7-318D-466E-A26B-BA5C5C2D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77F-BB66-4760-A203-B9BD6565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23FA-D238-4633-891A-A4DB0293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1A90-48EB-4914-802D-84D7DC4E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4147-BB49-43F2-A827-79F30812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8145-A5CB-48EF-B252-A02DB95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566F-2719-4C13-8B9C-9604B8AB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0F72E-E3FC-4D7A-B482-89535E91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96B22-B254-484F-AE95-393157E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CE1F5-B7C7-4E88-8873-E42BD55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C219-EDC4-4DAC-AA36-7B33EF5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D86F-2900-45F9-9760-2DE6B09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AAF-9436-4E1B-A7F5-09D80FF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A0A18-B8D1-4007-AE7F-860EDB64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326F5-6A22-4273-B6B9-3280FA22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F517-30D1-48A4-85D9-C7C8F3EE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E796-F8F1-44A7-89EF-B4921399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5EF3-E5F2-489E-AB6B-594A426F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8E9B-3818-4D7B-BCE7-6FD2C26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7E0F-AFE5-4193-A1F1-26CC8E10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51CBD-F962-4F14-8C6B-2F203980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4676-C109-471A-B04E-D06F126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11BEE-B9D3-4A4E-9ECC-0014926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ABA-2242-406E-A18F-9087FD3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3929-0B37-454B-ACE9-6361BFB0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9860B-1FE5-400D-8A66-ED08CDF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EEEB-6F7C-4BC5-A5DB-5C4DD4E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6F016-E0B9-47F8-95C9-A04234E1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803FE-22EC-4E87-957A-A109F9E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0C233-8D47-4885-8894-78A01F21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87997-552E-4C9A-831D-B071120E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915D7-754C-4CFE-A3FA-473B5D2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22C61-B609-4C38-8251-43ECB05B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6EFB-6B8C-4C43-B8AC-EA8A8D0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28B-8211-4DF9-A8D4-7786882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6FF8F-6239-4C77-B5FC-076915E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AA0AF-292F-4497-81BA-332DAC1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BC5E-4D0E-4785-A948-1C3C79F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67CB-EF50-4D2E-BCBD-E03623C9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79580-DF31-4426-A60D-296B667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5D1FD-A725-41F1-8EB0-BF589F3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7C95-EC1E-4C00-9FCB-613D79CD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94FAB-F1F1-4186-891A-796C1C81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122AB-0244-4192-BE35-511EB7D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99F1B-C5B0-4265-96F8-826FD5BF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8816-623C-445F-A15C-63878A96C2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89D-331B-43EA-8A5F-AF26626CD7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9402-BB7C-459A-A17F-DCC8ABB5D5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25A5-B704-41C5-B016-D7D7D32061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9E17-5BA5-49D7-A984-C00B81F3F5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8ACC-1BA7-4872-A148-4C6F0ECB35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208F-4D6E-4817-A328-DEA622D0BB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1ED-619C-461F-94BF-18244239C7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1390-0027-445A-B447-2AAD75626C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F54-56FE-4287-8043-0DAAEA6605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B103-0D8B-4A76-A379-D3F64A7169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523-2EA8-4DD2-A377-ED3722BB0F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60 Skončila sa tmavá n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ončila sa tmavá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ila nás Božia moc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če, skloň sa v láske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nes ráč nás chráni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Ducha svojho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 nás zachov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nad zlom víťaz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česť tvojho mena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aň s nami v tent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žeň každej strast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nám pokoj vl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d nami stále bde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25:54Z</dcterms:modified>
  <cp:revision>63</cp:revision>
  <dc:subject/>
  <dc:title>Je veľký náš Pán, on slávy je Kráľ Nech do všetkých strán  spev vrúcnych znie chvál.</dc:title>
</cp:coreProperties>
</file>